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7F7A-8906-44B8-9338-C7B4AE89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C53-55AA-4E8A-96B4-05E6E89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EC34-F7E6-4185-96B3-533BEC5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645E-C620-4C91-8BEA-A387AA7D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AC0-CF75-41E7-9892-2AEDEFB0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CC21-E00E-42EF-B737-B471F915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E3E-0302-4F69-8A39-1FB5EDA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5E5C-58BF-49A8-929E-5561720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D441-ED15-40EE-B7B1-7935BB0D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D0F8-6159-449D-A71C-1CF99716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BC30-0893-493E-90ED-452E069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D1B2-80FD-4E7C-A623-026F7954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5E59-9C47-4CB7-B2F3-FB95A9A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1C6-A36D-41FD-A4FD-F9832DF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2AC7-3C58-4ECE-8DFA-031447A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FC9F-B8E2-47BA-96F9-A7A4863E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D8BC-D958-41C0-9EC4-8DA6A0C0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3839-691E-44D3-B41F-A36287AF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32C6-C478-423B-9EF4-74C26558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9ABD-FFC0-4F42-87E0-F8702D3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DC82-5F57-4C2E-A605-05C2E2E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D308-AFCD-4424-836C-4181184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E2A0-0077-4C7F-8428-7571969C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A11A-1E67-42D3-9048-2D9B69A0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518-2234-4B3F-9945-EE85889319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0035-7AF7-48A2-953B-D9B87DAE94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vironmental probl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крытый урок в 10 А клас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: Анварова Л.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ОУ Балтасинская гимназ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ground  rock  roots  leaves  bark  trunk  branc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The part of a plant which is under the surf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The small green things on plants and tr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A part of a tree which has leaves on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The tall, round, central part of a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. The hard outside surface of a t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. What the earth is made o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.The surface of the earth, where we walk or st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ich person says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  we can do more to help?_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   you should put on lots of sun cream?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  we should stop using certain products? 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  ozone can be good and bad? 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  he/she doesn’t wear a hat in the sun? _________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  clouds do not protect you from the sun? __________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atch the words in list A with the words in list B to make phrases about environmental problem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oz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ac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exhau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dum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aeros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. endang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lay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  war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 fu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  rubb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 spe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 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 cans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Match the verbs in list A with the words in list B to make phrases which give solutions to environmental problem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cl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le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prot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s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  recy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 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 the car at h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  rubb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 aeros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  anim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 facto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hich problems and solutions match these com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should close that chemical factor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Why don’t people use public transport mor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We must stop using aerosol hairspra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We should use old papers and bottles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 We ought to ban hun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00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     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id rain       close factor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2"/>
          <p:cNvPicPr/>
          <p:nvPr/>
        </p:nvPicPr>
        <p:blipFill>
          <a:blip r:embed="rId1"/>
          <a:stretch/>
        </p:blipFill>
        <p:spPr>
          <a:xfrm>
            <a:off x="0" y="-747720"/>
            <a:ext cx="9396360" cy="885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20:18:11Z</dcterms:created>
  <dc:creator>user</dc:creator>
  <dc:description/>
  <dc:language>en-US</dc:language>
  <cp:lastModifiedBy>Lilija</cp:lastModifiedBy>
  <dcterms:modified xsi:type="dcterms:W3CDTF">2013-02-26T04:36:31Z</dcterms:modified>
  <cp:revision>8</cp:revision>
  <dc:subject/>
  <dc:title>ground  rock  roots  leaves  bark  trunk  branch</dc:title>
</cp:coreProperties>
</file>