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ADB8-2FB3-4718-8FDA-A38568FE98B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7062-41B5-484C-9C27-26EF632BCA5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19C-6435-4552-AACF-317131C1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158-2F94-4502-B216-E5AF9B93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751-B3ED-4268-803D-15AA6815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B95-C9CE-4922-801F-E43F1301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832-9E00-430D-A4E6-CE356C58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618-DD58-4CE6-858B-96F69E2F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A31-91B4-414B-9734-46789475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7AA-6AAA-4101-9D23-AAC6B9D7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652-4DAB-46DA-9303-1D26E01A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060-2DA3-48CB-B90C-2BD31FD5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3C8-B8D7-485C-B2E4-F5923D11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92B-96D8-408E-BD0A-9BF962A6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94C1-D01C-4449-8486-E39D837D09F2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ia.edu.ru/ru/main/brief-glossary/" TargetMode="External"/><Relationship Id="rId2" Type="http://schemas.openxmlformats.org/officeDocument/2006/relationships/hyperlink" Target="http://gia.edu.ru/ru/main/brief-glossary/" TargetMode="External"/><Relationship Id="rId3" Type="http://schemas.openxmlformats.org/officeDocument/2006/relationships/hyperlink" Target="http://gia.edu.ru/ru/main/brief-glossary/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1464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хова М.Х.,                                                                               ведущий консультант                                                                          Министерства образования и науки РТ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294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онные вопросы                                                            проведения государственной (итоговой) аттестации выпускников 9 классов в новой форме с использованием механизмов независимой оценки знаний путем создания Государственной экзаменационной комиссии Республики Татарс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000" y="333360"/>
            <a:ext cx="83516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уководитель ОУ-ППЭ за 30 минут до экзамена должен проконтролироват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аждой аудитори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и для воспроизведения аудиозаписи текста для прослушиван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нь проведения экзамена по русскому языку в штабе ППЭ должна находиться резервная звуковоспроизводящая аппаратура с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иводом и учитель – словестник для чтения текста, в случае отказа работы звуковоспроизводящей аппаратуры с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иводом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изике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ств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а по физик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читель физики, не преподающий в данном классе) для проведения перед экзаменом инструктажа по технике безопасности и за соблюдением правил безопасного труда во время работы учащихся с лабораторным оборудование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форматике и ИКТ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ств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аудитории, где будет проводиться практическая часть экзамена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го специалист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остранным языкам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ность и работоспособность звуковоспроизводящей и звукозаписывающей техник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сутствие в аудиториях для устног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а экзаменатора-собеседника, экзаменатора-эксперта, технического специалиста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временное перемещение участников ГИА по аудитория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пределение участников ГИ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191628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1 час 30 мину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ачала экзаме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 ПЭВМ производи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матизированное распреде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стников ГИА-9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ервный вариант распределения участников ГИА-9 делается накануне экзамена)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16264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сутствие документа, удостоверяющего личность участника ГИА-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108000" y="155700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отсутствия у участника ГИА-9  документа, удостоверяющего личность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ПЭ и сопровождающий от У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формляют в двух экземплярах «Протокол идентификации личности участника ГИА – 9 в новой форме при отсутствии у него документов, удостоверяющих личность участника экзамена». Один экземпляр протокола остается у руководителя ОУ - ППЭ, второй у сопровождающего от ОУ. Участник экзамена пропускается в ОУ - ППЭ.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ОУ-ППЭ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уведомить ответственного организатора в аудитории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й сдает данный участник экзамен о том, что данного участника необходимо пропустить в аудиторию на основании «Протокол идентификации личности участника ГИА-9 в новой форме при отсутствии у него документов, удостоверяющих личность участника экзамена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80640" y="188640"/>
            <a:ext cx="81630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явка участника ГИА-9 на экзам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196640"/>
            <a:ext cx="8281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провождающий из ОУ дает информацию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 причине отсут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частника ГИА-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Если участник ГИА-9 отсутствует по уважительной причине (болезнь, смерть близких родственников и т.д.),  в день проведения экзаме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У и МОУО ходатайству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 допуске данного участника ГИА-9 в резервный день (или в дополнительные сроки) приложением документов, подтверждающих наличие уважительной прич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6914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а экзамене категорически запрещае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9640" y="1412640"/>
            <a:ext cx="811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пировать бланки №1 и №2», дополнительные бланки №2 . Копии бланков НЕ будут обработ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Использовать цветные бланки ответов ФЦТ. Данные бланки не будут обработаны, результаты по ним не будут выд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Скреплять скрепками, стэплером и иными способами любые документы, которые упаковываются в спецпак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Складывать черновики в спецпакет с бланками ответов №1 и №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Вносить изменения в автоматически распечатанные на бланках ответов №1 и №2 номер КИМ и номер вариа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Писать карандашом, фломастерами и шариковыми ручками всех цветов. Для записей необходимо использовать только черную гелевую руч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ам ГИА-9 в новой форме на экзаменах разрешается пользовать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280" y="119664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и татарскому языкам – орфографическим словарем, звуковоспроизводящей аппаратур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атематике – линейкой, справочными материалами, выдаваемыми вместе с КИ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изике – непрограммируемым калькулятором и экспериментальным оборудованием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имии – непрограммируемым калькулятором и справочными материалам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еографии – линейкой, непрограммируемым калькулятором и географическими атласами для 7, 8, 9 классов (любого издательств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итературе – полными текстами художественных произведений, а также сборниками лири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форматике и ИКТ – компьютером (при выполнении части 3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остранным языкам – звуковоспроизводящей и звукозаписывающей аппаратурой, настенными час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ыдача и оформление дополнительного бланка ответов №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1699920"/>
            <a:ext cx="8459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аудитории закончились дополнительные бланки ответов №2, руководитель ОУ - ППЭ выдаёт бланки из своего комплекта ответственному организатору. Ответственный организатор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помочь участнику экзаме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соответствующие поля дополнительного бланка ответов № 2 (№ КИМ, № варианта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вить номер лис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1200" y="53640"/>
            <a:ext cx="81630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завершение экзамена                                           по уважительной причин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4000" y="1125000"/>
            <a:ext cx="8496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исключительном случае участник экзамена по уважительной причине (например, проблемы со здоровьем)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жет покинуть аудиторию, не закончив экзаме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таком случае ответственный организатор в аудитори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олжен сообщи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б этой ситуаци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уководителю ОУ - ППЭ и уполномоченному представителю ГЭК Р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В пропуске участника ГИА-9 делается запись «Не закончил экзамен по уважительной причине».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уководитель ОУ - ППЭ и уполномоченный представитель ГЭК должны состави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лужебную записк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свободной форме с объяснением произошедшего и по возможности приложить другие документы, подтверждающие наличие уважительной причины (справка от дежурного в ОУ - ППЭ медицинского работника или другие документы, предоставленные родителями участника экзамена или иными уполномоченными лицами)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У и МОУО ходатайствует о допуске данного участника ГИА-9 в резервный день (или в дополнительные срок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1626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даление с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кза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4920" y="1052280"/>
            <a:ext cx="8024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4" marL="2010600" indent="-346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несоблюдении порядка проведения ГИА-9 организаторы удаляют участни­ков ГИА-9 с экзамена. В этом случае организаторы совместно с уполномоченны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тавителем ГЭК, руководителем ОУ - ППЭ составляю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кт об удалении участника ГИА-9 с экзамена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пропуске делается за­пись «Удален с экзамена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нки ответов участников ГИА-9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даленного с экзамена и не завершившего экзамен по объективным причин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паковываются и направляются на обработку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тдельном спецпакете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рочная сдача экзаменационных материалов прекращается за 15 минут до окончания экзамена, при этом в аудитории должны оставаться до официального завершения экзамен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менее 3-х участников ГИА-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аудитории сдает экзамен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пускник с ограниченными возможностями здоровья (или ребенок-инвали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для которого предусмотрено создание условий, отвечающих физиологическим особенностям и состоянию здоровья, экзаменационный материал упаковывается в присутствии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менее 3 должностных ли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рганизаторов в аудитории, уполномоченного представителя ГЭК РТ, общественного наблюдателя или руководителя ОУ-ППЭ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7848360" cy="17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Vrinda"/>
              </a:rPr>
              <a:t>Приказом МОиН РТ от 08.04.2013 № 1312/13 «Об окончании 2012/2013 учебного года, организации и проведении государственной (итоговой) аттестации выпускников </a:t>
            </a:r>
            <a:r>
              <a:rPr b="0" lang="en-US" sz="2100" spc="-1" strike="noStrike">
                <a:solidFill>
                  <a:srgbClr val="000000"/>
                </a:solidFill>
                <a:latin typeface="Vrinda"/>
                <a:ea typeface="Vrinda"/>
              </a:rPr>
              <a:t>IX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Vrind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rinda"/>
                <a:ea typeface="Vrinda"/>
              </a:rPr>
              <a:t> XI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Vrinda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Vrinda"/>
                <a:ea typeface="Vrinda"/>
              </a:rPr>
              <a:t>XII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Vrinda"/>
              </a:rPr>
              <a:t>) классов общеобразовательных учреждений Республики Татарстан» установлены следующие сроки проведения ГИА-9 в новой форм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Vrind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560" y="3141720"/>
            <a:ext cx="85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8 мая (вт.) – математи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1 мая (пт.) 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обществознание, физика, химия, иностранные языки (английский, французский, немецкий, испанский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июня (вт.) - русский язы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 июня (пт.) 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история, биология, информатика и ИКТ; география, литератур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1 июня (вт.) 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зервный день: </a:t>
            </a:r>
            <a:r>
              <a:rPr b="0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атематика, история, физика, география, биология, иностранные языки (английский, французский, немецкий, испанский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4 июня (пт.) 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зервный день: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усский язык, обществознание, химия, информатика и ИКТ, литератур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7 июня (пн.) – татарский язык.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826920" y="333360"/>
            <a:ext cx="777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и проведения ГИА-9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63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ередача материалов и документов ГИА-9 из ОУ-ППЭ в РЦО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3640" y="1268280"/>
            <a:ext cx="8613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 позднее, чем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за 1 час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ле окончания экзамена руководитель ОУ-ППЭ формирует и передает уполномоченному представителю ГЭК по акту приемки-передачи (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орма ППЭ-1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следующие материалы и документ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  запечатанны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ецпакеты с бланками ответов № 1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   запечатанные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ецпакеты с бланками ответов № 2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включая дополнительные бланки ответов № 2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   списки участников ГИА-9 в новой форме в аудитории ОУ-ППЭ (из каждой аудитории)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(форма ППЭ-5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    протокол распределения организаторов по аудиториям ОУ-ППЭ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(форма ППЭ-7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    акты о результатах общественного контроля проведения ГИА-9 в новой форме в ОУ-ППЭ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     акты об удалении из ОУ-ППЭ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юбые другие документы, которые руководитель ОУ-ППЭ считает нужным передать в РЦОИ передаются лично уполномоченному  представителю ГЭК Р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163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ередача материалов и документов ГИА-9 из ОУ-ППЭ в МОУ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412640"/>
            <a:ext cx="811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окончания экзамена руководитель ОУ-ППЭ по акту приемки-передачи материалов передает муниципальному координатору ГИА-9 в новой форме следующие материалы и документы ГИА-9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временное хран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использованные КИ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черновики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испорченные, имеющие полиграфические дефекты, некомплектные и неиспользованные КИ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работы конфликтной коми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560" y="1071720"/>
            <a:ext cx="8893080" cy="552600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, порядок работы конфликтной комиссии, ее полномочия доводятся до сведения выпускников, их родителей (законных представителей), учителей и директоров общеобразовательных учреждений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месяц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начала государственной (итоговой) аттест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несогласия с выставленной отметкой следует в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-дневны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подать апелляцию в письменной форме в 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О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бучающийся ознакомился с официальными результатами экзаме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О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нявший апелляцию, должен сразу же передать ее в 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МОУО</a:t>
            </a: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му специалисту.  Ответственный специалист обеспечивает передачу бланков апелляций в 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конфликтную комиссию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информирует 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О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дате и времени рассмотрения апелляц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егистрации и рассмотрения апелляций о несогласии с выставленными баллами (отметками) ГИ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зань, ул. Закиева, 31 (МОУ «СОШ № 161»), тел. 262-52-3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163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пелляции о нарушении процедуры проведения экза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69992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ачи апелляции о нарушении установленного порядка проведения ГИА-9 в новой форме участник экзамена должен обратиться к ответственному организатору в аудитории или руководителю ОУ-ППЭ, который должен выдать участнику экзамен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ППЭ-2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пелляция о нарушении установленного порядка проведения ГИА-9 в новой форме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лномоченный представитель ГЭК обязан немедленно провест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бное расследова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фактам, изложенным в поданном заявлении, и оформить Протокол служебного расследования апелляции о нарушении установленного порядка проведения ГИА-9 в новой форм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а ППЭ-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пелляционные документы о нарушении установленного порядка проведения ГИА-9 в новой форме вместе с протоколом служебного расследования передаются в РЦОИ  уполномоченным представителем ГЭК Р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У-ППЭ могут находиться лица, направленные департаментом надзора и контроля в сфере образования министерства для осуществления контроля за ходом проведения государственной (итоговой) аттестации, или члены ГЭК 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ствие в ОУ-ППЭ уполномоченного представителя ГЭК РТ обеспечивает министерство, других категорий должностных лиц – МОУ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ый срок проведения ГИ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июня (пт) – математика, обществознание, физика, химия, иностранные язы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июня (пн) – русский язык, история, биология, информатика и ИКТ, география, литератур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июня (чт) – резервный день (все предметы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и IX классов, получившие на государственной (итоговой) аттестации в новой форм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двух неудовлетворительных отмето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ускаются к повторной государственной (итоговой) аттестации по этим предметам, которая проводитс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полнительные сроки путем создания муниципальной экзаменационной комиссии на базе ОУ-ППЭ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МЭК создаются муниципальны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комиссии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осуществляют проверку и оценивание экзаменационных работ в соответствии с инструкциями и критери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75502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ветственность должностных л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000" y="1700280"/>
            <a:ext cx="8110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, привлекаемые к работе по подготовке и проведению государственной (итоговой) аттестации, в период выполнения ими функций по проведению государственной (итоговой) аттестации обучающихся призна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ными лиц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есут ответственность в соответствии с законодательством Российской Федерации за неисполнение или ненадлежащее исполнение своих обязанностей и злоупотребление служебным положени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ственность общеобразовательных учрежд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4360" y="1916280"/>
            <a:ext cx="764352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за ознакомление выпускников IX классов, родителей (их законных представителей) с нормативными правовыми актами, инструкциями, регламентирующими проведение государственной (итоговой) аттестации обучающихс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агается на общеобразовательное учреждение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282600"/>
            <a:ext cx="8163000" cy="35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нтактные телефон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. тел. 292-49-06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с 292-24-32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ЦОИ (г.Казань, ул. Закиева, 31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л. 262-52-33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lyaush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ahova@tatar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429264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80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ительность экзаменов ГИА-9 в новой форме по каждому предмету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1557360"/>
          <a:ext cx="8136000" cy="5130720"/>
        </p:xfrm>
        <a:graphic>
          <a:graphicData uri="http://schemas.openxmlformats.org/drawingml/2006/table">
            <a:tbl>
              <a:tblPr/>
              <a:tblGrid>
                <a:gridCol w="3743280"/>
                <a:gridCol w="4392720"/>
              </a:tblGrid>
              <a:tr h="43488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родолжительность эк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6764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усский язык, математика, литератур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часа 55 минут (235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9158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физика, история, обществ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часа (180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0500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иология, информатика и И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часа 30 минут (150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50472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химия, ге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часа (120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19492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ностранные языки (английский, французский, немецк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часа (120 минут) – письменная часть экзаме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минут на каждого экзаменуемого – устная часть экзаме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рное время пребывания учащегося на экзамене не должно превышать 6 часов (360 минут), включая время ожидания своей очереди устного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омплектованность ОУ-ПП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1630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тельный этап проведения                ГИА-9 в ОУ-ПП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7640" y="1341360"/>
            <a:ext cx="8861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участников ГИА по ОУ-ППЭ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азы данных участников ГИА-9 муниципального район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боты по общественному наблюдению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всех категорий работников ОУ-ППЭ: руководителей ППЭ, организаторов в аудиториях и вне аудиторий, общественных наблюдателе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техническими средствами и оборудование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ОУ-ППЭ к ГИА-9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явки всех работников ОУ-ППЭ и специалистов-предметников на экзамена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работы по организации общественного наблюдения за ходом ГИА-9 в МОУ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311040" y="1233360"/>
            <a:ext cx="88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 обобщение заявлений граждан, желающий пройти аккредитацию в качестве общественного наблюдател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редитация общественных наблюдателей (оформление и выдача удостоверений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в МОиН РТ списка лиц, аккредитованных в качестве общественного наблюдателя, с указанием ППЭ, предмета и даты экзам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общественных наблюдателей  с нормативными, правовыми, инструктивно-методическими документами, регламентирующими проведение государственной (итоговой) аттест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оответствующего инструктажа по порядку проведения государственной (итоговой) аттест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явки общественных наблюдателей в ППЭ и заполнения акта о результатах общественного наблю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учение работников ОУ-ПП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55640" y="1557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 прохождения инструктажа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ив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твержде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ждого работника ОУ-ППЭ (организатора в аудитории, организатора вне аудитории, оператора ПЭВМ, общественного наблюдателя) в подготовленной руководителе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ПЭ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домости произвольной 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спечение ОУ-ППЭ техническими средствами и оборудование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468360" y="127332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и татарскому языкам – звуковоспроизводящей аппаратурой (для воспроизведения аудиотекст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остранным языкам (английский, французский,  немецкий, испанский) – звуковоспроизводящей (для воспроизведения аудиотекста) и звукозаписывающей аппаратурой (диктофоны, батарейки), компакт-дисками (CD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для записи ответов экзаменуемых в разделе «Говорение»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изике – экспериментальным оборудование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форматике и ИКТ – персональными компьютерами                                         с установленным соответствующим программным обеспечение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а ОУ-ППЭ к проведению ГИА-9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ниципальный координатор должен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7-10 дней до экзам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в необходимом количестве возвратные доставочные пакеты (бумажные конверты), СД-диски (по 2 на ППЭ для проведения экзаменов по информатике, иностранным языкам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соответствие ОУ-ППЭ требованиям, установленным в инструкциях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каждое ОУ-ППЭ медицинским работником и представителем органа охраны правопоряд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ень до экзам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готовность ОУ-ППЭ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обеспеченность ОУ-ППЭ техническими средствами и оборудование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ть 1 экземпляр протокола о готовности ОУ-ППЭ к ГИА-9 (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ППЭ-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 МОиН Р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21:01:05Z</dcterms:created>
  <dc:creator>ege</dc:creator>
  <dc:description/>
  <dc:language>en-US</dc:language>
  <cp:lastModifiedBy>Салахова</cp:lastModifiedBy>
  <dcterms:modified xsi:type="dcterms:W3CDTF">2013-04-16T06:32:24Z</dcterms:modified>
  <cp:revision>50</cp:revision>
  <dc:subject/>
  <dc:title>Салахова М.Х.,                                                                               ведущий консультант                                                                          Министерства образования и науки РТ</dc:title>
</cp:coreProperties>
</file>