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C75E-53B6-44BC-935C-7B076DA70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44C-9117-4182-A5E9-B316731AC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53B-4DA2-493C-B348-0904EEF3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6AA-621B-4FAE-AD5D-35C32F6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6C0-602F-4FFC-A3CB-092F037D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3EC-48A4-4980-B78B-5BE811F3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1B5-5485-4650-99FD-2B75B89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360-80F0-4EF2-A473-4EF3F77E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098-50D5-41D1-9D4F-F8F3985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208-6EC2-4A4B-86E1-5167B280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90C-AA1C-4440-A315-6BB5D1B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B67-E7C8-4C15-855C-F5B43B4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F60-D8F5-4DFE-B1E1-281FD8FF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51A-1936-43B2-8D90-9F70C39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012-9E0C-4E95-9E77-77E0754904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4564-1284-449A-9FB7-D862FB94B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Times New Roman"/>
              </a:rPr>
              <a:t>Без ничек аралашабыз?</a:t>
            </a:r>
            <a:r>
              <a:rPr b="0" lang="tt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Сүзләрне укыгыз һәм тәрҗемә итег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loud"/>
          <p:cNvSpPr/>
          <p:nvPr/>
        </p:nvSpPr>
        <p:spPr>
          <a:xfrm>
            <a:off x="0" y="1268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Сәл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6012000" y="1341360"/>
            <a:ext cx="31320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ау булыгы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-252360" y="5019840"/>
            <a:ext cx="331164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сәнмесе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2484360" y="1413000"/>
            <a:ext cx="3743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ыныч йок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>
            <a:off x="0" y="31417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Яхш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2771640" y="4797360"/>
            <a:ext cx="331308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Рәхим итеге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6012000" y="50198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Рәхмә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5796000" y="3068640"/>
            <a:ext cx="33480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Хәерле кө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2556000" y="2997360"/>
            <a:ext cx="360036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әерле ирт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Times New Roman"/>
              </a:rPr>
              <a:t>Ягымлы сүзләрне табыгы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кыш җит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Хәерле көн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Марат я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Сау булыгы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Мату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Сәл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Тыныч йок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Куян сикерә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Рәхим итеге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Ур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мн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әр ниш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71139117063e6cfeb7280a2b219a7184f6a700bdc_b"/>
          <p:cNvPicPr/>
          <p:nvPr/>
        </p:nvPicPr>
        <p:blipFill>
          <a:blip r:embed="rId1"/>
          <a:stretch/>
        </p:blipFill>
        <p:spPr>
          <a:xfrm>
            <a:off x="4932360" y="1197000"/>
            <a:ext cx="333864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i?id=d485a60217fcad5e38deda368754a190&amp;n=33&amp;h=215&amp;w=323"/>
          <p:cNvPicPr/>
          <p:nvPr/>
        </p:nvPicPr>
        <p:blipFill>
          <a:blip r:embed="rId2"/>
          <a:stretch/>
        </p:blipFill>
        <p:spPr>
          <a:xfrm>
            <a:off x="971640" y="1413000"/>
            <a:ext cx="3076560" cy="204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gra-detej2"/>
          <p:cNvPicPr/>
          <p:nvPr/>
        </p:nvPicPr>
        <p:blipFill>
          <a:blip r:embed="rId3"/>
          <a:stretch/>
        </p:blipFill>
        <p:spPr>
          <a:xfrm>
            <a:off x="4572000" y="4165560"/>
            <a:ext cx="4280040" cy="2379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i?id=2ad63328c68d46c2a03ed95525c19ae6&amp;n=33&amp;h=215&amp;w=382"/>
          <p:cNvPicPr/>
          <p:nvPr/>
        </p:nvPicPr>
        <p:blipFill>
          <a:blip r:embed="rId4"/>
          <a:stretch/>
        </p:blipFill>
        <p:spPr>
          <a:xfrm>
            <a:off x="611280" y="4076640"/>
            <a:ext cx="36385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елдән сөйләм һәм язма сөйлә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uh2"/>
          <p:cNvPicPr/>
          <p:nvPr/>
        </p:nvPicPr>
        <p:blipFill>
          <a:blip r:embed="rId1"/>
          <a:stretch/>
        </p:blipFill>
        <p:spPr>
          <a:xfrm>
            <a:off x="539640" y="1628640"/>
            <a:ext cx="76755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Arial"/>
              </a:rPr>
              <a:t>Телдән сөйләмме? Язма сөйләмм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т уку,я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п 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ета 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нан с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өйләш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некдот сөйлә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Җыр җыр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29153250"/>
          <p:cNvPicPr/>
          <p:nvPr/>
        </p:nvPicPr>
        <p:blipFill>
          <a:blip r:embed="rId1"/>
          <a:stretch/>
        </p:blipFill>
        <p:spPr>
          <a:xfrm>
            <a:off x="4979880" y="907920"/>
            <a:ext cx="4164120" cy="277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ap937-2"/>
          <p:cNvPicPr/>
          <p:nvPr/>
        </p:nvPicPr>
        <p:blipFill>
          <a:blip r:embed="rId2"/>
          <a:stretch/>
        </p:blipFill>
        <p:spPr>
          <a:xfrm>
            <a:off x="900000" y="907920"/>
            <a:ext cx="3957840" cy="278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9172311918-23_b"/>
          <p:cNvPicPr/>
          <p:nvPr/>
        </p:nvPicPr>
        <p:blipFill>
          <a:blip r:embed="rId3"/>
          <a:stretch/>
        </p:blipFill>
        <p:spPr>
          <a:xfrm>
            <a:off x="2484360" y="3645000"/>
            <a:ext cx="4549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1:11:39Z</dcterms:created>
  <dc:creator>Iskander</dc:creator>
  <dc:description>http://aida.ucoz.ru</dc:description>
  <dc:language>en-US</dc:language>
  <cp:lastModifiedBy>Начальная</cp:lastModifiedBy>
  <dcterms:modified xsi:type="dcterms:W3CDTF">2020-04-25T08:46:49Z</dcterms:modified>
  <cp:revision>8</cp:revision>
  <dc:subject/>
  <dc:title>Тәмле сүзләр  бармы?</dc:title>
</cp:coreProperties>
</file>