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wmf" ContentType="image/x-wmf"/>
  <Override PartName="/ppt/media/image23.jpeg" ContentType="image/jpeg"/>
  <Override PartName="/ppt/media/image29.png" ContentType="image/png"/>
  <Override PartName="/ppt/media/image2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6D10-F0E1-4F69-935D-78BF0A33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FDC-8079-44D9-B020-C97F9DF6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93AF-6459-4F51-B789-E48DD7C1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F691-02F9-4825-BD81-97523E96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8CB5-B1E4-4569-AA13-939E9EE8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E843-9439-42C2-B765-2696AA60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24CE-257D-4725-B53D-24855C78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0B1F-672C-4792-9C7E-0D3BBB7B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04C9-8225-47F2-B7C4-74A2B5DD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F4D6-BC9D-4351-806A-39DE904A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04B7-DD0E-43A9-9612-BF9FEDA7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FA2-FC74-4174-8805-4BC68C0F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A795-6CA1-4C19-A9CD-1462BCAE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B7A1-B5F0-4B52-93F3-92DFF3EF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6E3B-9C89-4224-AB8F-8B45AFA1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B6D6-8AE6-4D7B-92E6-32730BC5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8190-1126-48DC-BA15-81BD0225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2B38F-F8F3-4249-9CED-084B79C1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E0121-08D3-48FA-8544-07AA7758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2F3AD-A3FA-4A5A-B728-1D699BEF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E2226-A6E0-47B5-AE26-5E98C0CB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9ADA0-AA85-4C86-90E7-61CE8992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CEC3-DCEB-4F1F-951B-2845D7C3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0C60D-E1FC-4A08-A01E-B8ABE74D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17C6A-34E4-4555-8FD3-3A2630E3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6C326-0293-4938-9202-6C1F1CB6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CF1CD-0CCD-46F4-A3DA-3092449E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02456-3C12-43BE-913F-22B65BCC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ED997-227F-4183-987F-7B65D02A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6CF12-F4D1-49A1-8738-93FF11F0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0EA06-58D2-4F99-B3A1-D6C9E1C3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5EE3E-D2F4-47BF-8D65-BBC9FA8D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C2B72-E897-439F-8280-AE93EA97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81B-78A9-4374-A66C-51C89C63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B3C3A-479A-454C-962D-C2D826F8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F4FC3-391E-4265-BCDD-1491EC5D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B90AA-BCD1-499F-8680-4F332703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C4EAD-DFBC-4842-82CD-A522030C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710BD-8E5A-4FD3-B56B-C54895E2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F1D1E-2D14-486C-8569-9CB05F44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691BA-F0E6-4C9F-8891-A2CF0354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AAE74-8852-499D-A95D-59A1A2B9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5BDA0-9E0E-4B64-BAF4-F41950E0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1DAD6D-2DDE-4DD4-B28D-FD81D738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3E8-1E98-4FAC-81C2-3C330FB9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29AD2-968C-4B0F-9DEE-EAA08FB8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AA0BE1-79AD-4D35-B421-C27CFD4B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474192-8D5F-4ED5-95F4-E5A6F808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42ECCF-245F-46C6-B3B9-B9B83E52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B5E398-3301-4586-B99D-5E13D87B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CCF28-5963-450F-BB14-F3AFA959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6C546-AD6F-4DFB-847A-D48ADD3C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657E53-0227-4C7A-8BAB-A687F3B3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487538-E18D-4E1D-9FBE-A3DB922A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1B76E2-4120-4F43-8DF1-82D0D780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1CF9-C01D-410B-BA3E-8096B1B2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C1FED9-A705-4AE1-B1B4-42553822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1C20F-19C9-47B0-8247-6E61875D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E82DEC-E15E-4695-8DCB-9B63D044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5EA83-CFB7-44F9-8C71-0E5B5356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58C048-0226-4768-A2C9-982F1316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55EE90-8D51-4DEF-ADAC-3E9B9AA3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451D8E-7107-4524-8059-1A2245CA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CA7855-A3B1-4C89-83CE-70AE5D18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3B34C1-E201-45F3-832B-E8AF2410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BFD544-01C0-4407-8B18-61F5CBF5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1D7-7F33-4035-A0E0-68E636A5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F2235E-B1FC-4822-946A-DAA96A97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2FADB-C2A3-4C82-8C6A-77B14B89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C7EC99-04BA-452B-AC20-41DD76F4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879938-271F-4194-BA25-4DF1394C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FD5E92-1F38-407E-A253-1E252C1B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DAF43A-60AF-451F-B036-539EE574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F05CDA-4065-467C-BA34-D1EDF8FD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E69D49-BEF9-476F-9A2F-DF97A594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47EB07-0A06-4884-A3F2-A369EC62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64C52-6771-484A-8E69-A1A7E6B2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F4E9-3720-4DF7-BABF-0B40DD81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881B13-D535-4D7E-B495-7F9905C6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7DCD16-041A-43E0-B051-1C9B8A47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2734BE-BC45-4E53-B0DD-B5748E3D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751EAE-E8BB-48C6-9BAD-E042769C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EE56C4-8531-4CF5-AD59-BBBDE8B8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5FA1-32BC-420C-9FDD-39C490E7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8BC5-1447-4164-A9CE-473CA0EF98C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2AE0-DFD2-4E57-93F1-69C46CDD0D8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6306-2DB3-4722-AFC8-E98FB1FD452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3590-B5D1-4286-91C7-A351E742F6D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6B00-ABAC-44F0-8C02-A2F138A2293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507E-69F1-45E6-873B-63E6DE99A92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7EA4-A485-4122-AF85-FFF8D917395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685800" y="917640"/>
            <a:ext cx="815328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600"/>
                </a:solidFill>
                <a:latin typeface="Book Antiqua"/>
              </a:rPr>
              <a:t>«Профилактика грипп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0"/>
          <p:cNvSpPr/>
          <p:nvPr/>
        </p:nvSpPr>
        <p:spPr>
          <a:xfrm>
            <a:off x="3581280" y="510552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  <p:pic>
        <p:nvPicPr>
          <p:cNvPr id="354" name="Picture 1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2114640" cy="335304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8" descr="5.jpg"/>
          <p:cNvPicPr/>
          <p:nvPr/>
        </p:nvPicPr>
        <p:blipFill>
          <a:blip r:embed="rId3"/>
          <a:stretch/>
        </p:blipFill>
        <p:spPr>
          <a:xfrm>
            <a:off x="6934320" y="3200400"/>
            <a:ext cx="15843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3"/>
          <p:cNvSpPr/>
          <p:nvPr/>
        </p:nvSpPr>
        <p:spPr>
          <a:xfrm>
            <a:off x="457200" y="762120"/>
            <a:ext cx="3657600" cy="23619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спублике Татарстан в сезон 2015-2016 гг. привито  1039640 челове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трелка вправо с вырезом 4"/>
          <p:cNvSpPr/>
          <p:nvPr/>
        </p:nvSpPr>
        <p:spPr>
          <a:xfrm>
            <a:off x="4191120" y="1371600"/>
            <a:ext cx="1434960" cy="789120"/>
          </a:xfrm>
          <a:custGeom>
            <a:avLst/>
            <a:gdLst>
              <a:gd name="textAreaLeft" fmla="*/ 197280 w 1434960"/>
              <a:gd name="textAreaRight" fmla="*/ 1237680 w 1434960"/>
              <a:gd name="textAreaTop" fmla="*/ 197280 h 789120"/>
              <a:gd name="textAreaBottom" fmla="*/ 591840 h 789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662" y="5400"/>
                </a:lnTo>
                <a:lnTo>
                  <a:pt x="15662" y="0"/>
                </a:lnTo>
                <a:lnTo>
                  <a:pt x="21600" y="10800"/>
                </a:lnTo>
                <a:lnTo>
                  <a:pt x="15662" y="21600"/>
                </a:lnTo>
                <a:lnTo>
                  <a:pt x="15662" y="16200"/>
                </a:lnTo>
                <a:lnTo>
                  <a:pt x="0" y="16200"/>
                </a:lnTo>
                <a:lnTo>
                  <a:pt x="296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5"/>
          <p:cNvSpPr/>
          <p:nvPr/>
        </p:nvSpPr>
        <p:spPr>
          <a:xfrm>
            <a:off x="5715000" y="685800"/>
            <a:ext cx="3124080" cy="25909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ват - 27,3% от численности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6"/>
          <p:cNvSpPr/>
          <p:nvPr/>
        </p:nvSpPr>
        <p:spPr>
          <a:xfrm>
            <a:off x="5638680" y="3657600"/>
            <a:ext cx="3200400" cy="22096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ват – 31,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трелка вправо с вырезом 7"/>
          <p:cNvSpPr/>
          <p:nvPr/>
        </p:nvSpPr>
        <p:spPr>
          <a:xfrm>
            <a:off x="4114800" y="4495680"/>
            <a:ext cx="1434960" cy="789120"/>
          </a:xfrm>
          <a:custGeom>
            <a:avLst/>
            <a:gdLst>
              <a:gd name="textAreaLeft" fmla="*/ 197280 w 1434960"/>
              <a:gd name="textAreaRight" fmla="*/ 1237680 w 1434960"/>
              <a:gd name="textAreaTop" fmla="*/ 197280 h 789120"/>
              <a:gd name="textAreaBottom" fmla="*/ 591840 h 789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662" y="5400"/>
                </a:lnTo>
                <a:lnTo>
                  <a:pt x="15662" y="0"/>
                </a:lnTo>
                <a:lnTo>
                  <a:pt x="21600" y="10800"/>
                </a:lnTo>
                <a:lnTo>
                  <a:pt x="15662" y="21600"/>
                </a:lnTo>
                <a:lnTo>
                  <a:pt x="15662" y="16200"/>
                </a:lnTo>
                <a:lnTo>
                  <a:pt x="0" y="16200"/>
                </a:lnTo>
                <a:lnTo>
                  <a:pt x="296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8"/>
          <p:cNvSpPr/>
          <p:nvPr/>
        </p:nvSpPr>
        <p:spPr>
          <a:xfrm>
            <a:off x="457200" y="3809880"/>
            <a:ext cx="3429000" cy="2286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йской Федерации в сезон 2015-2016 гг. привито  44,9 млн. челове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ИЗНАКИ ГРИППА: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599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зкое повышение температуры тела (выше 38°С) без каких- либо сопутствующих симптом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ловная бол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 в мыщца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 в горле, кашел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сморк, заложенность нос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вота и диаре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4" descr="\\fs\Отделы\ЭПИДНАДЗОР\Василенко-ЯО\ГРИПП\МЕРОПРИЯТИЯ_ГРИПП\разьяснит работа-НАСЕЛЕНИЕ сезон 16-17 гг\В ТО письмо-4.08.16 г\migren-i-temperatura.jpg"/>
          <p:cNvPicPr/>
          <p:nvPr/>
        </p:nvPicPr>
        <p:blipFill>
          <a:blip r:embed="rId1"/>
          <a:stretch/>
        </p:blipFill>
        <p:spPr>
          <a:xfrm>
            <a:off x="4648320" y="1066680"/>
            <a:ext cx="1904760" cy="1168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\\fs\Отделы\ЭПИДНАДЗОР\Василенко-ЯО\ГРИПП\МЕРОПРИЯТИЯ_ГРИПП\разьяснит работа-НАСЕЛЕНИЕ сезон 16-17 гг\В ТО письмо-4.08.16 г\goglovnaya_bol.jpg"/>
          <p:cNvPicPr/>
          <p:nvPr/>
        </p:nvPicPr>
        <p:blipFill>
          <a:blip r:embed="rId2"/>
          <a:stretch/>
        </p:blipFill>
        <p:spPr>
          <a:xfrm>
            <a:off x="6858000" y="1066680"/>
            <a:ext cx="1447920" cy="9684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\\fs\Отделы\ЭПИДНАДЗОР\Василенко-ЯО\ГРИПП\МЕРОПРИЯТИЯ_ГРИПП\разьяснит работа-НАСЕЛЕНИЕ сезон 16-17 гг\В ТО письмо-4.08.16 г\oznob-i-potlivost-bez-temperatury.jpg"/>
          <p:cNvPicPr/>
          <p:nvPr/>
        </p:nvPicPr>
        <p:blipFill>
          <a:blip r:embed="rId3"/>
          <a:stretch/>
        </p:blipFill>
        <p:spPr>
          <a:xfrm>
            <a:off x="6477120" y="2286000"/>
            <a:ext cx="1981080" cy="11858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\\fs\Отделы\ЭПИДНАДЗОР\Василенко-ЯО\ГРИПП\МЕРОПРИЯТИЯ_ГРИПП\разьяснит работа-НАСЕЛЕНИЕ сезон 16-17 гг\В ТО письмо-4.08.16 г\1_142.jpg"/>
          <p:cNvPicPr/>
          <p:nvPr/>
        </p:nvPicPr>
        <p:blipFill>
          <a:blip r:embed="rId4"/>
          <a:stretch/>
        </p:blipFill>
        <p:spPr>
          <a:xfrm>
            <a:off x="5943600" y="3581280"/>
            <a:ext cx="2440080" cy="1830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\\fs\Отделы\ЭПИДНАДЗОР\Василенко-ЯО\ГРИПП\МЕРОПРИЯТИЯ_ГРИПП\разьяснит работа-НАСЕЛЕНИЕ сезон 16-17 гг\В ТО письмо-4.08.16 г\55000.jpg"/>
          <p:cNvPicPr/>
          <p:nvPr/>
        </p:nvPicPr>
        <p:blipFill>
          <a:blip r:embed="rId5"/>
          <a:stretch/>
        </p:blipFill>
        <p:spPr>
          <a:xfrm>
            <a:off x="4572000" y="2514600"/>
            <a:ext cx="1698480" cy="1924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9" descr="\\fs\Отделы\ЭПИДНАДЗОР\Василенко-ЯО\ГРИПП\МЕРОПРИЯТИЯ_ГРИПП\разьяснит работа-НАСЕЛЕНИЕ сезон 16-17 гг\В ТО письмо-4.08.16 г\kak-lechit-otravlenie-u-detej-rvota-i-temperatura-11.jpg"/>
          <p:cNvPicPr/>
          <p:nvPr/>
        </p:nvPicPr>
        <p:blipFill>
          <a:blip r:embed="rId6"/>
          <a:stretch/>
        </p:blipFill>
        <p:spPr>
          <a:xfrm>
            <a:off x="4419720" y="4724280"/>
            <a:ext cx="1523880" cy="17640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11"/>
          <p:cNvSpPr/>
          <p:nvPr/>
        </p:nvSpPr>
        <p:spPr>
          <a:xfrm>
            <a:off x="685800" y="617220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ЗАРАЗИТЬСЯ ВИРУСОМ ГРИППА И ГДЕ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нтакте с больным человеком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нтакте с человеком с признаками гриппа на расстоянии до 2 м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могут заразиться в детском саду и школе, взрослые в общественных местах (театры, торговые центры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9" descr="http://www.factroom.ru/facts/wp-content/uploads/2014/04/454-620x413.jpg"/>
          <p:cNvPicPr/>
          <p:nvPr/>
        </p:nvPicPr>
        <p:blipFill>
          <a:blip r:embed="rId1"/>
          <a:stretch/>
        </p:blipFill>
        <p:spPr>
          <a:xfrm>
            <a:off x="762120" y="4419720"/>
            <a:ext cx="3276360" cy="2182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http://s25.uo15.ru/wp-content/uploads/2015/09/%D0%93%D0%98%D0%91%D0%94%D0%94_2015_2.jpg"/>
          <p:cNvPicPr/>
          <p:nvPr/>
        </p:nvPicPr>
        <p:blipFill>
          <a:blip r:embed="rId2"/>
          <a:stretch/>
        </p:blipFill>
        <p:spPr>
          <a:xfrm>
            <a:off x="5181480" y="2438280"/>
            <a:ext cx="3522960" cy="1981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http://las-vegas.su/wp-content/uploads/2015/06/detskie-parovoziki.png"/>
          <p:cNvPicPr/>
          <p:nvPr/>
        </p:nvPicPr>
        <p:blipFill>
          <a:blip r:embed="rId3"/>
          <a:stretch/>
        </p:blipFill>
        <p:spPr>
          <a:xfrm>
            <a:off x="5029200" y="4724280"/>
            <a:ext cx="3645000" cy="1600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\\fs\Отделы\ЭПИДНАДЗОР\Василенко-ЯО\ГРИПП\МЕРОПРИЯТИЯ_ГРИПП\разьяснит работа-НАСЕЛЕНИЕ сезон 16-17 гг\В ТО письмо-4.08.16 г\198340.jpg"/>
          <p:cNvPicPr/>
          <p:nvPr/>
        </p:nvPicPr>
        <p:blipFill>
          <a:blip r:embed="rId4"/>
          <a:stretch/>
        </p:blipFill>
        <p:spPr>
          <a:xfrm>
            <a:off x="685800" y="2286000"/>
            <a:ext cx="3581280" cy="204300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9"/>
          <p:cNvSpPr/>
          <p:nvPr/>
        </p:nvSpPr>
        <p:spPr>
          <a:xfrm>
            <a:off x="4114800" y="6396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БЕРЕЧЬСЯ ОТ ЗАРАЖЕНИЯ ГРИППОМ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457200"/>
            <a:ext cx="3657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делать прививку против гриппа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ь посещения мест большого скопления людей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крывать нос и рот при чихании или кашле одноразовой салфетко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встрече с человеком с признаками гриппа, держитесь от него на расстоянии &gt; 2 м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асто проветривать помещения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лажная уборка помещений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ноценно питаться, высыпаться, избегать переутомления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прикасаться к глазам, носу или рту немытыми руками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держиваться правил личной гигиены, часто мыть руки с мылом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2" descr="\\fs\Отделы\ЭПИДНАДЗОР\Василенко-ЯО\ГРИПП\МЕРОПРИЯТИЯ_ГРИПП\разьяснит работа-НАСЕЛЕНИЕ сезон 16-17 гг\В ТО письмо-4.08.16 г\depositphotos_11078500-in-the-crowd.jpg"/>
          <p:cNvPicPr/>
          <p:nvPr/>
        </p:nvPicPr>
        <p:blipFill>
          <a:blip r:embed="rId1"/>
          <a:stretch/>
        </p:blipFill>
        <p:spPr>
          <a:xfrm>
            <a:off x="6477120" y="533520"/>
            <a:ext cx="2212920" cy="1676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\\fs\Отделы\ЭПИДНАДЗОР\Василенко-ЯО\ГРИПП\МЕРОПРИЯТИЯ_ГРИПП\разьяснит работа-НАСЕЛЕНИЕ сезон 16-17 гг\В ТО письмо-4.08.16 г\i.jpg"/>
          <p:cNvPicPr/>
          <p:nvPr/>
        </p:nvPicPr>
        <p:blipFill>
          <a:blip r:embed="rId2"/>
          <a:stretch/>
        </p:blipFill>
        <p:spPr>
          <a:xfrm>
            <a:off x="4419720" y="609480"/>
            <a:ext cx="1523880" cy="15033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\\fs\Отделы\ЭПИДНАДЗОР\Василенко-ЯО\ГРИПП\МЕРОПРИЯТИЯ_ГРИПП\разьяснит работа-НАСЕЛЕНИЕ сезон 16-17 гг\В ТО письмо-4.08.16 г\kak-predupredit-gripp_11_1.jpeg"/>
          <p:cNvPicPr/>
          <p:nvPr/>
        </p:nvPicPr>
        <p:blipFill>
          <a:blip r:embed="rId3"/>
          <a:stretch/>
        </p:blipFill>
        <p:spPr>
          <a:xfrm>
            <a:off x="6248520" y="2286000"/>
            <a:ext cx="2058840" cy="15447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\\fs\Отделы\ЭПИДНАДЗОР\Василенко-ЯО\ГРИПП\МЕРОПРИЯТИЯ_ГРИПП\разьяснит работа-НАСЕЛЕНИЕ сезон 16-17 гг\В ТО письмо-4.08.16 г\Plastikovie_okna_pravilniy.jpg"/>
          <p:cNvPicPr/>
          <p:nvPr/>
        </p:nvPicPr>
        <p:blipFill>
          <a:blip r:embed="rId4"/>
          <a:stretch/>
        </p:blipFill>
        <p:spPr>
          <a:xfrm>
            <a:off x="6400800" y="3809880"/>
            <a:ext cx="2057400" cy="1322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\\fs\Отделы\ЭПИДНАДЗОР\Василенко-ЯО\ГРИПП\МЕРОПРИЯТИЯ_ГРИПП\разьяснит работа-НАСЕЛЕНИЕ сезон 16-17 гг\В ТО письмо-4.08.16 г\wash_hands1.jpg"/>
          <p:cNvPicPr/>
          <p:nvPr/>
        </p:nvPicPr>
        <p:blipFill>
          <a:blip r:embed="rId5"/>
          <a:stretch/>
        </p:blipFill>
        <p:spPr>
          <a:xfrm>
            <a:off x="3962520" y="213372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\\fs\Отделы\ЭПИДНАДЗОР\Василенко-ЯО\ГРИПП\МЕРОПРИЯТИЯ_ГРИПП\разьяснит работа-НАСЕЛЕНИЕ сезон 16-17 гг\В ТО письмо-4.08.16 г\i (1).jpg"/>
          <p:cNvPicPr/>
          <p:nvPr/>
        </p:nvPicPr>
        <p:blipFill>
          <a:blip r:embed="rId6"/>
          <a:stretch/>
        </p:blipFill>
        <p:spPr>
          <a:xfrm>
            <a:off x="4495680" y="3886200"/>
            <a:ext cx="2133720" cy="2405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уборка"/>
          <p:cNvPicPr/>
          <p:nvPr/>
        </p:nvPicPr>
        <p:blipFill>
          <a:blip r:embed="rId7"/>
          <a:stretch/>
        </p:blipFill>
        <p:spPr>
          <a:xfrm>
            <a:off x="6629400" y="5105520"/>
            <a:ext cx="1628640" cy="144756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14"/>
          <p:cNvSpPr/>
          <p:nvPr/>
        </p:nvSpPr>
        <p:spPr>
          <a:xfrm>
            <a:off x="838080" y="61722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АЦИЯ ОТ ГРИППА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кцинироваться от гриппа нужно в осенний период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ивка не ослабляет, а наоборот, усиливает способность организма противостоять гриппу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акцинация проводится после осмотра врач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3" descr="\\fs\Отделы\ЭПИДНАДЗОР\Василенко-ЯО\ГРИПП\МЕРОПРИЯТИЯ_ГРИПП\разьяснит работа-НАСЕЛЕНИЕ сезон 16-17 гг\В ТО письмо-4.08.16 г\2477752_шприц-вектора-стороны-эскиз-cartoon-медицинской.jpg"/>
          <p:cNvPicPr/>
          <p:nvPr/>
        </p:nvPicPr>
        <p:blipFill>
          <a:blip r:embed="rId1"/>
          <a:stretch/>
        </p:blipFill>
        <p:spPr>
          <a:xfrm>
            <a:off x="3352680" y="411480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8"/>
          <p:cNvSpPr/>
          <p:nvPr/>
        </p:nvSpPr>
        <p:spPr>
          <a:xfrm>
            <a:off x="304920" y="617220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ГО ГРИПП ОПАСНЫЙ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 5 лет (особенно дети до 2 лет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ные сахарным диабето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ные с хроническими заболеваниями легки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ременные женщин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и с лишним весо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ольные с хроническими сердечно-сосудистыми заболеваниям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и с другими хроническими заболевания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старше 60 л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1066680" y="609588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ГРУППЫ РИСКА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1426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дицинские работник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еля и воспитател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давц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дители, кондуктор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ботники общественных мес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4" descr="\\fs\Отделы\ЭПИДНАДЗОР\Василенко-ЯО\ГРИПП\МЕРОПРИЯТИЯ_ГРИПП\разьяснит работа-НАСЕЛЕНИЕ сезон 16-17 гг\В ТО письмо-4.08.16 г\6960575.png"/>
          <p:cNvPicPr/>
          <p:nvPr/>
        </p:nvPicPr>
        <p:blipFill>
          <a:blip r:embed="rId1"/>
          <a:stretch/>
        </p:blipFill>
        <p:spPr>
          <a:xfrm>
            <a:off x="4343400" y="1981080"/>
            <a:ext cx="1828800" cy="12416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6" descr="\\fs\Отделы\ЭПИДНАДЗОР\Василенко-ЯО\ГРИПП\МЕРОПРИЯТИЯ_ГРИПП\разьяснит работа-НАСЕЛЕНИЕ сезон 16-17 гг\В ТО письмо-4.08.16 г\depositphotos_47242093-Delivery-truck-driver-waving-cartoon.jpg"/>
          <p:cNvPicPr/>
          <p:nvPr/>
        </p:nvPicPr>
        <p:blipFill>
          <a:blip r:embed="rId2"/>
          <a:stretch/>
        </p:blipFill>
        <p:spPr>
          <a:xfrm>
            <a:off x="4564080" y="3421080"/>
            <a:ext cx="15840" cy="14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8" descr="\\fs\Отделы\ЭПИДНАДЗОР\Василенко-ЯО\ГРИПП\МЕРОПРИЯТИЯ_ГРИПП\разьяснит работа-НАСЕЛЕНИЕ сезон 16-17 гг\В ТО письмо-4.08.16 г\11529427-Cartoon-car-with-a-man-driver-and-passenger-a-woman-Vector-Stock-Vector.jpg"/>
          <p:cNvPicPr/>
          <p:nvPr/>
        </p:nvPicPr>
        <p:blipFill>
          <a:blip r:embed="rId3"/>
          <a:stretch/>
        </p:blipFill>
        <p:spPr>
          <a:xfrm>
            <a:off x="6477120" y="3809880"/>
            <a:ext cx="1676160" cy="1374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9" descr="\\fs\Отделы\ЭПИДНАДЗОР\Василенко-ЯО\ГРИПП\МЕРОПРИЯТИЯ_ГРИПП\разьяснит работа-НАСЕЛЕНИЕ сезон 16-17 гг\В ТО письмо-4.08.16 г\train-conductor.jpg"/>
          <p:cNvPicPr/>
          <p:nvPr/>
        </p:nvPicPr>
        <p:blipFill>
          <a:blip r:embed="rId4"/>
          <a:stretch/>
        </p:blipFill>
        <p:spPr>
          <a:xfrm>
            <a:off x="4267080" y="4267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0" descr="\\fs\Отделы\ЭПИДНАДЗОР\Василенко-ЯО\ГРИПП\МЕРОПРИЯТИЯ_ГРИПП\разьяснит работа-НАСЕЛЕНИЕ сезон 16-17 гг\В ТО письмо-4.08.16 г\ne_zabytoe_staroe.jpg"/>
          <p:cNvPicPr/>
          <p:nvPr/>
        </p:nvPicPr>
        <p:blipFill>
          <a:blip r:embed="rId5"/>
          <a:stretch/>
        </p:blipFill>
        <p:spPr>
          <a:xfrm>
            <a:off x="5943600" y="5334120"/>
            <a:ext cx="1828800" cy="1217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2" descr="\\fs\Отделы\ЭПИДНАДЗОР\Василенко-ЯО\ГРИПП\МЕРОПРИЯТИЯ_ГРИПП\разьяснит работа-НАСЕЛЕНИЕ сезон 16-17 гг\В ТО письмо-4.08.16 г\рррррррррррр.jpg"/>
          <p:cNvPicPr/>
          <p:nvPr/>
        </p:nvPicPr>
        <p:blipFill>
          <a:blip r:embed="rId6"/>
          <a:stretch/>
        </p:blipFill>
        <p:spPr>
          <a:xfrm>
            <a:off x="1600200" y="3429000"/>
            <a:ext cx="1943280" cy="1295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3" descr="\\fs\Отделы\ЭПИДНАДЗОР\Василенко-ЯО\ГРИПП\МЕРОПРИЯТИЯ_ГРИПП\разьяснит работа-НАСЕЛЕНИЕ сезон 16-17 гг\В ТО письмо-4.08.16 г\sm.jpg"/>
          <p:cNvPicPr/>
          <p:nvPr/>
        </p:nvPicPr>
        <p:blipFill>
          <a:blip r:embed="rId7"/>
          <a:stretch/>
        </p:blipFill>
        <p:spPr>
          <a:xfrm>
            <a:off x="1219320" y="1066680"/>
            <a:ext cx="1218960" cy="156852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25"/>
          <p:cNvSpPr/>
          <p:nvPr/>
        </p:nvSpPr>
        <p:spPr>
          <a:xfrm>
            <a:off x="1066680" y="6095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7"/>
          <p:cNvSpPr/>
          <p:nvPr/>
        </p:nvSpPr>
        <p:spPr>
          <a:xfrm>
            <a:off x="684360" y="4797360"/>
            <a:ext cx="79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УДЬТЕ ЗДОРОВ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делай прививку сейчас, чтобы не болеть пото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rinthian</dc:creator>
  <dc:description/>
  <dc:language>en-US</dc:language>
  <cp:lastModifiedBy>1</cp:lastModifiedBy>
  <dcterms:modified xsi:type="dcterms:W3CDTF">2016-09-13T04:55:46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