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00D-119F-4A2A-BFDD-6EBD92B7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1E0-6575-47AE-B1B1-F73960B4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583-8309-4963-8BAA-10CDB4B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0B6-D8D4-4044-BB72-503C766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F6B-E7B2-4E12-9856-9B8D52F4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0AE-8AC5-4C53-933B-93E75042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6B0-C5A7-4194-944E-908755D8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829-957E-40B0-B25C-5A7AE473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D57-5EF3-400D-8806-0DA4576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68B-D961-430C-8A20-1055607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2CC-050A-4427-88FE-9B626BA8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656-CB56-421B-83FE-3578E8E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A13-38E8-4932-B24E-868DC069C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419640" y="981000"/>
            <a:ext cx="3744720" cy="81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am,  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667400" y="17827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140360" y="2565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ar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sp>
        <p:nvSpPr>
          <p:cNvPr id="44" name="AutoShape 9"/>
          <p:cNvSpPr/>
          <p:nvPr/>
        </p:nvSpPr>
        <p:spPr>
          <a:xfrm>
            <a:off x="3203640" y="3573360"/>
            <a:ext cx="4681440" cy="2519640"/>
          </a:xfrm>
          <a:prstGeom prst="bevel">
            <a:avLst>
              <a:gd name="adj" fmla="val 12500"/>
            </a:avLst>
          </a:prstGeom>
          <a:solidFill>
            <a:srgbClr val="5e52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635280" y="3789360"/>
            <a:ext cx="39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нглийского язы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БОУ СОШ № 98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ерзлик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995480" y="76500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330440" y="62064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17320" y="765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mer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934280" y="472608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cu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369680" y="515772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821280" y="4797360"/>
            <a:ext cx="17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unluc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0" descr="Кащей"/>
          <p:cNvPicPr/>
          <p:nvPr/>
        </p:nvPicPr>
        <p:blipFill>
          <a:blip r:embed="rId1"/>
          <a:stretch/>
        </p:blipFill>
        <p:spPr>
          <a:xfrm>
            <a:off x="1835280" y="1773360"/>
            <a:ext cx="2062080" cy="28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Мальвина"/>
          <p:cNvPicPr/>
          <p:nvPr/>
        </p:nvPicPr>
        <p:blipFill>
          <a:blip r:embed="rId2"/>
          <a:stretch/>
        </p:blipFill>
        <p:spPr>
          <a:xfrm>
            <a:off x="4127400" y="1773360"/>
            <a:ext cx="2197080" cy="280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незнайка"/>
          <p:cNvPicPr/>
          <p:nvPr/>
        </p:nvPicPr>
        <p:blipFill>
          <a:blip r:embed="rId3"/>
          <a:stretch/>
        </p:blipFill>
        <p:spPr>
          <a:xfrm>
            <a:off x="6588000" y="1773360"/>
            <a:ext cx="215604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2579400" y="5565600"/>
            <a:ext cx="8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ev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190200" y="54928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si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58120" y="11253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657040" y="117324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k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008800" y="765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91560" y="8128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17360" y="14605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679840" y="165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599920" y="146052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940760" y="21812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675520" y="218124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959480" y="2803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746800" y="282888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84320" y="34527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696040" y="342900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740920" y="6681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5733720" y="131616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5761080" y="203688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651360" y="69228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651360" y="134136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877080" y="206064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2" descr="анамация елочка"/>
          <p:cNvPicPr/>
          <p:nvPr/>
        </p:nvPicPr>
        <p:blipFill>
          <a:blip r:embed="rId1"/>
          <a:stretch/>
        </p:blipFill>
        <p:spPr>
          <a:xfrm>
            <a:off x="3995640" y="2708280"/>
            <a:ext cx="2633760" cy="3317760"/>
          </a:xfrm>
          <a:prstGeom prst="rect">
            <a:avLst/>
          </a:prstGeom>
          <a:ln w="0">
            <a:noFill/>
          </a:ln>
        </p:spPr>
      </p:pic>
      <p:pic>
        <p:nvPicPr>
          <p:cNvPr id="77" name="песенка Алфавит 2.mp3" descr=""/>
          <p:cNvPicPr/>
          <p:nvPr/>
        </p:nvPicPr>
        <p:blipFill>
          <a:blip r:embed="rId2"/>
          <a:stretch/>
        </p:blipFill>
        <p:spPr>
          <a:xfrm>
            <a:off x="2484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65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1814400" y="620640"/>
            <a:ext cx="7329600" cy="547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202120" y="4389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17440" y="46544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448720" y="465444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538360" y="4317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020320" y="49417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81920" y="4941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164680" y="51577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19480" y="431784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3345120" y="465300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249720" y="4941720"/>
            <a:ext cx="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244040" y="472608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bi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223880" y="4941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420680" y="515772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050920" y="1052640"/>
            <a:ext cx="1729080" cy="1439640"/>
          </a:xfrm>
          <a:custGeom>
            <a:avLst/>
            <a:gdLst>
              <a:gd name="textAreaLeft" fmla="*/ 394560 w 1729080"/>
              <a:gd name="textAreaRight" fmla="*/ 1334520 w 1729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284720" y="692280"/>
            <a:ext cx="1727280" cy="14396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e1f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372360" y="1052640"/>
            <a:ext cx="1871640" cy="158436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b2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979640" y="2924280"/>
            <a:ext cx="1800360" cy="158436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15f7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987640" y="4653000"/>
            <a:ext cx="1871640" cy="151272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6877080" y="3284640"/>
            <a:ext cx="1871640" cy="151272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84720" y="2492280"/>
            <a:ext cx="1800000" cy="158436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580000" y="4653000"/>
            <a:ext cx="1728720" cy="15127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908000" y="836640"/>
            <a:ext cx="69120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авьте  am,  is  или   are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63640" y="2060640"/>
            <a:ext cx="563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 …    friendly</a:t>
            </a:r>
            <a:r>
              <a:rPr b="0" lang="en-US" sz="2800" spc="-1" strike="noStrike">
                <a:solidFill>
                  <a:srgbClr val="15f76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He   …  k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It  …   bl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It  …  yel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They   …    n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Comic Sans MS"/>
              </a:rPr>
              <a:t>Mike and Helen   …   mer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ike   …   sma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Helen   …   c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422800" y="1917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79560" y="23493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635200" y="27813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563920" y="3213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060360" y="36450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768200" y="407664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048120" y="45100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284640" y="494172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Ink</cp:lastModifiedBy>
  <dcterms:modified xsi:type="dcterms:W3CDTF">2013-01-15T07:41:27Z</dcterms:modified>
  <cp:revision>16</cp:revision>
  <dc:subject/>
  <dc:title>Презентация PowerPoint</dc:title>
</cp:coreProperties>
</file>