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67DF32-42A9-4875-A7F4-AC0DF94A1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7B6819-6603-4593-ACB2-93BC901233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402C3B-90A6-45D4-8D2B-5BF670AA79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222-F128-4559-BE4B-862DB41E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648-ED62-45EA-8EA5-F262B54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045-DE60-4350-A916-A1533328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100-F981-4FE5-8C06-222D6471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09CA-2314-47D5-8B9F-F9750C7E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8B7A-E6D6-49EC-AA4D-5194F5FA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5A9-460F-4178-AFC1-F8238AC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D37-7BA3-4E8E-BA85-D0C698CC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19D6-7CD4-48DA-9263-46A1E0B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325F-8420-40AA-A988-1CEA6D9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E4FC-808C-4391-9921-54594BA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823-261C-4415-BB45-8CA5EB3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C259-1323-4CFD-85A6-02B2D30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8B0F-73D1-43CF-B031-4B635C3B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289A-C82F-41F8-B53C-CC59D3B8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B1FD-73BB-4E2E-8CD2-30D186C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CE03-EB2D-413F-A54F-89810F9F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69A-0430-4749-A8CA-61211912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A93-0BCB-485F-BF1A-14B6C6C0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E14-5F9B-490B-A367-0A2543C5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FDC-CD2E-4879-ACBF-9270A78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8F3-E983-4074-BD64-AF41B00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B56-CAB4-49A3-9A14-B55F9ABD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AD6-E2DC-4AC6-BC3D-A5326D3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08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68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108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CBA-EDC2-43D4-AC6B-26CD69B64EC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08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1840" indent="-2268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108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93A-CF42-44EB-A4EF-C1A19CD03AD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461440" cy="203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266720" y="45720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Выполнил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Казаринов Антон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e2d5a3"/>
                </a:solidFill>
                <a:latin typeface="Times New Roman"/>
              </a:rPr>
              <a:t>4 «Г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ceb966"/>
                </a:solidFill>
                <a:latin typeface="Times New Roman"/>
              </a:rPr>
              <a:t>Руководитель: Галина Васильевна</a:t>
            </a:r>
            <a:r>
              <a:rPr b="0" lang="en-US" sz="2800" spc="-1" strike="noStrike">
                <a:solidFill>
                  <a:srgbClr val="ceb9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eb966"/>
                </a:solidFill>
                <a:latin typeface="Times New Roman"/>
              </a:rPr>
              <a:t>Тимошки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...Was...  Marilyn Monroe a famous actress?" "Yes, she ...was...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    "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fred Hitchcock an actor?" "No, he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famous director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    "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eethoven, Mozart and Chopin directors? No, the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"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The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mposers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    "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omas Edison a singer?" "No, 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...................."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"H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n inventor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    "....................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braham  Lincoln  and  George Washington presidents of the USA?" "Yes, they ............ ."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1   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i="1" lang="en-US" sz="2600" spc="-1" strike="noStrike">
                <a:solidFill>
                  <a:srgbClr val="ffffff"/>
                </a:solidFill>
                <a:latin typeface="Book Antiqua"/>
              </a:rPr>
              <a:t>...am... cold. Please, close the window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m and Jean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Spain last week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arah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en years old in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995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Georg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ired. He is going to bed now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 secretary. I work in a big offic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6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om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 Peter's house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7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um and Dad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t home last nigh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8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erry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y friend. He lives next doo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9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lison and Kate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ate for school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0   .....................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cameramen at the studio now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s / with I you / who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eting I at I were / people / how man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you I were / sad / wh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st night / you / at / home / wer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n I was / shop /th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re / much / tickets / the / h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, it was clos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ty-fiv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   ......................................................................£20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cause I was alon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...................................................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, I was ou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..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was with you?...    Aunt Mar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hecke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"/>
          <p:cNvPicPr/>
          <p:nvPr/>
        </p:nvPicPr>
        <p:blipFill>
          <a:blip r:embed="rId2"/>
          <a:stretch/>
        </p:blipFill>
        <p:spPr>
          <a:xfrm>
            <a:off x="378000" y="298440"/>
            <a:ext cx="8321400" cy="601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АНТОН\Мои документы\Мои рисунки\Гарри Поттер\Отсканировано 28.03.2008 19-20.bmp"/>
          <p:cNvPicPr/>
          <p:nvPr/>
        </p:nvPicPr>
        <p:blipFill>
          <a:blip r:embed="rId2"/>
          <a:stretch/>
        </p:blipFill>
        <p:spPr>
          <a:xfrm>
            <a:off x="152280" y="1066680"/>
            <a:ext cx="4343400" cy="261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af9738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Bob is eighty. He's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old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and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weak.</a:t>
            </a:r>
            <a:r>
              <a:rPr b="1" i="1" lang="en-US" sz="1800" spc="-1" strike="noStrike">
                <a:solidFill>
                  <a:srgbClr val="af9738"/>
                </a:solidFill>
                <a:latin typeface="Book Antiqua"/>
              </a:rPr>
              <a:t>               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Fifty years</a:t>
            </a:r>
            <a:r>
              <a:rPr b="0" lang="ru-RU" sz="1800" spc="-1" strike="noStrike">
                <a:solidFill>
                  <a:srgbClr val="af9738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ago they were young. Bo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Mary, his wife is seventy-nine. was strong</a:t>
            </a:r>
            <a:r>
              <a:rPr b="0" lang="ru-RU" sz="1800" spc="-1" strike="noStrike">
                <a:solidFill>
                  <a:srgbClr val="af9738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    He wasn't weak. Mary was                                   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She's old too. 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af9738"/>
                </a:solidFill>
                <a:latin typeface="Book Antiqua"/>
              </a:rPr>
              <a:t>             beautiful. She wasn't old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af9738"/>
                </a:solidFill>
                <a:latin typeface="Book Antiqua"/>
              </a:rPr>
              <a:t>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C:\Documents and Settings\АНТОН\Мои документы\Мои рисунки\Гарри Поттер\Копия Отсканировано 28.03.2008 19-20.bmp"/>
          <p:cNvPicPr/>
          <p:nvPr/>
        </p:nvPicPr>
        <p:blipFill>
          <a:blip r:embed="rId3"/>
          <a:stretch/>
        </p:blipFill>
        <p:spPr>
          <a:xfrm>
            <a:off x="4572000" y="1066680"/>
            <a:ext cx="444960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142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В прошедшем простом времени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(past simple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*) глагол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"to be"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с личными местоимениями именительном падеже имеет следующие формы: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as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для -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I, he, she, it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и -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ere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для -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you, they. </a:t>
            </a:r>
            <a:r>
              <a:rPr b="1" lang="ru-RU" sz="2600" spc="-1" strike="noStrike">
                <a:solidFill>
                  <a:srgbClr val="af9738"/>
                </a:solidFill>
                <a:latin typeface="Times New Roman"/>
              </a:rPr>
              <a:t>В вопросах </a:t>
            </a:r>
            <a:r>
              <a:rPr b="1" lang="en-US" sz="2600" spc="-1" strike="noStrike">
                <a:solidFill>
                  <a:srgbClr val="af9738"/>
                </a:solidFill>
                <a:latin typeface="Book Antiqua"/>
              </a:rPr>
              <a:t>was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I were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ставятся перед личным местоимением в именительном падеже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(I, you, he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и т.д.) или существительным. Например: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She was ill yesterday.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-&gt;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Was she ill yesterday?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Отрицания образуются путем постановки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not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после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was I were. </a:t>
            </a:r>
            <a:r>
              <a:rPr b="1" i="1" lang="ru-RU" sz="2600" spc="-1" strike="noStrike">
                <a:solidFill>
                  <a:srgbClr val="af9738"/>
                </a:solidFill>
                <a:latin typeface="Times New Roman"/>
              </a:rPr>
              <a:t>Например: </a:t>
            </a:r>
            <a:r>
              <a:rPr b="1" i="1" lang="en-US" sz="2600" spc="-1" strike="noStrike">
                <a:solidFill>
                  <a:srgbClr val="af9738"/>
                </a:solidFill>
                <a:latin typeface="Book Antiqua"/>
              </a:rPr>
              <a:t>She was not ill yesterday. I She wasn't ill yesterday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* Иногда употребляется термин </a:t>
            </a:r>
            <a:r>
              <a:rPr b="0" i="1" lang="en-US" sz="2600" spc="-1" strike="noStrike">
                <a:solidFill>
                  <a:srgbClr val="af9738"/>
                </a:solidFill>
                <a:latin typeface="Book Antiqua"/>
              </a:rPr>
              <a:t>past indefini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Таблица 4" descr=""/>
          <p:cNvPicPr/>
          <p:nvPr/>
        </p:nvPicPr>
        <p:blipFill>
          <a:blip r:embed="rId2"/>
          <a:stretch/>
        </p:blipFill>
        <p:spPr>
          <a:xfrm>
            <a:off x="231840" y="1146240"/>
            <a:ext cx="882648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Уч.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A: Where were you at </a:t>
            </a: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8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o'clock yesterday </a:t>
            </a: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800" spc="-1" strike="noStrike">
                <a:solidFill>
                  <a:srgbClr val="af9738"/>
                </a:solidFill>
                <a:latin typeface="Times New Roman"/>
              </a:rPr>
              <a:t>Уч. В: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I was at the cinem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1 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you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cine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2 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Helen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pa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Tom and Mary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thea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4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Mr Miller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wor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5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Doris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af9738"/>
                </a:solidFill>
                <a:latin typeface="Book Antiqua"/>
              </a:rPr>
              <a:t> h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6   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you and the boys </a:t>
            </a:r>
            <a:r>
              <a:rPr b="0" lang="ru-RU" sz="2800" spc="-1" strike="noStrike">
                <a:solidFill>
                  <a:srgbClr val="af9738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af9738"/>
                </a:solidFill>
                <a:latin typeface="Book Antiqua"/>
              </a:rPr>
              <a:t> supermark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55440"/>
            <a:ext cx="824256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852192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y were in Berli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s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He was in hospital tw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nth. 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(When?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st month.)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eks ago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When? Two weeks ago.)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1828800" cy="2163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182880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0"/>
          <p:cNvSpPr/>
          <p:nvPr/>
        </p:nvSpPr>
        <p:spPr>
          <a:xfrm>
            <a:off x="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st simple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потребляется для выражения действия, которое закончилось в определенное указанное время в прошлом. Иными словами, нам известно, когда (и часто где) оно произош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4"/>
          <a:stretch/>
        </p:blipFill>
        <p:spPr>
          <a:xfrm>
            <a:off x="1212840" y="-66600"/>
            <a:ext cx="6261120" cy="968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 маркерам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ast simple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носятся: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yesterday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eek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 month, last year. two days I weeks I months I years ago,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last Monday/ Tuesday, in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975 и т.д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аткие ответы строятся с помощью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Yes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го местоимения в именительном падеже и глагольных форм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as / wasn't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re / weren't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ржание вопроса не повторяется. Например: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ere you late yesterday? Yes, I was. I No, I wasn'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3048120"/>
          <a:ext cx="6095880" cy="2225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ere you … 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I was/we w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I wasn't/we were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as he/she/it 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he/she/it was.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he/she/it was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Was he/she/it</a:t>
                      </a:r>
                      <a:r>
                        <a:rPr b="1" lang="ru-RU" sz="2800" spc="-1" strike="noStrike">
                          <a:solidFill>
                            <a:srgbClr val="af9738"/>
                          </a:solidFill>
                          <a:latin typeface="Times New Roman"/>
                        </a:rPr>
                        <a:t>.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Yes, they w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7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af9738"/>
                          </a:solidFill>
                          <a:latin typeface="Book Antiqua"/>
                        </a:rPr>
                        <a:t>No, they weren'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11" name="Прямоугольник 8"/>
          <p:cNvSpPr/>
          <p:nvPr/>
        </p:nvSpPr>
        <p:spPr>
          <a:xfrm>
            <a:off x="685800" y="5562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мечание. Когда говорим о людях, которых уже нет в живых, мы употребляем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st si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09-10-08T07:06:55Z</dcterms:modified>
  <cp:revision>31</cp:revision>
  <dc:subject/>
  <dc:title>Слайд 1</dc:title>
</cp:coreProperties>
</file>