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BB9-CCB3-45D7-A09C-6D875400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92A-098C-4BAD-9B95-B197B070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BD4-6D6E-47D5-9B7F-F8D185A7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6F0-AC47-4E64-97E3-B845A757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C476-A9F2-4494-A65D-6B47EC09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4A0C-AD42-433F-841A-EBFD1194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F31F-18C4-4A8B-A91B-2B5C2E3A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4292-22B2-4BB1-91F6-25420C6B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8AE2-76BB-4488-90A7-84FCAF5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137E-C77B-45A7-B9E8-192C5C2B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C5B8-A08C-472A-9CDC-E4855FC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184-6A5E-4994-A481-1D1E404D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DE46-01CB-4D0B-B48A-2A4F55A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6D4F-F141-418C-853B-29BCBDC5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FE30-B79E-4355-AE4C-9C158200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CCC7-5C98-48D1-900D-F7DB047F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292-C768-414F-B76F-AC76C883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21E4B-62C3-4324-80A0-2093BBBA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BD308-D85A-4DBD-A753-E482DFF8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ACF11-8B00-4649-AAF5-58461782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6EDBC-2174-4A90-90F2-2627D489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7ADBD-9059-484C-A19B-14F045A1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EC4-484D-4C23-A88B-ABA7CE41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B3BFE-C121-495F-AC4E-0D2FA502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205CB-26CF-49C5-9FF9-C88842FB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FA5F6-86E7-40CB-87C3-6E69EBDA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87F4E-35A6-4FC6-A5E1-43C1C141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3E7D1-0DFB-44C0-BD73-CBE2B347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11D82-3816-44BB-AD89-CE6764CE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BA27C-B3EE-4907-AC67-D49DA262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AFD9-29D2-483F-9FF7-CAF5135C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954C-6509-44CB-9B20-7FCC1688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8DDE-3926-4E86-9371-2656315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E51-12A1-4321-B230-91BC95BF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3095-BB89-4CB8-9F0B-4CB7B771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B9715-C16A-4E9D-957C-54A161E9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06AE-D4E7-4C1C-9AA9-2E2C831E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2CFA-661B-46C9-AEDB-03E9B2A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218D-25B3-4A29-8121-DD05E4E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9FB0-5B77-4413-A5EF-FF657CA0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E18B-B667-49C4-9872-6E259F68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42E3-D2E8-456F-AB3C-E1E4C43F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95BD-3BAF-405F-9D7D-678B9F39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88E02-82E2-45F4-BED6-A3CF3A5F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3C5-06FB-49E7-A684-F5651D3D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151D0-D47C-439A-A1A3-D7B8EDBD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A433-163F-4CA1-B37D-90293675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B0122-1661-4B5E-8659-447F1EAF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AE2D-062E-4BAD-AEB0-4F9B7F85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FD365-0FB5-46EF-8052-B67F3F59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C9A8-C739-42AD-B3D2-9C45106C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66AF9-BFA7-405E-AC73-6F2A915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C847-7AE0-4C80-9875-573CD1B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F746C-16A6-4522-96A8-810B63FF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0718-0DB8-4628-BB9C-9D912EA9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926-5D50-425F-91AE-737C36A4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8235A-7A7B-4160-ADA9-9CBED216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75D80-6CA9-48B4-94B7-EBAADE57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5BF3E-AADF-4E5E-9CE5-AF561B14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A62B-254E-4EA4-ABC8-9CC7C2D7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FC03-7BE1-47FC-97C6-38B636F0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D076-C41C-4ADA-890D-3D9C54F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FAA4-E15C-4B87-9D67-89A9865A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4C76-0C33-4C75-B56F-CEA894B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38F3-F062-4125-87AD-FE780F24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7A70B-DEED-48F8-8B6C-C150D29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B7E-1F9E-4C8F-91C2-1687FC5F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F80BD-F111-436A-8A33-74382BE7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5A247-C381-4269-B19C-31597A31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C4CDA-8D0F-46CA-8C62-59BF54AF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82B-1EA1-4E0C-8CB8-CD59DE0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BAC-3C7A-47FF-8F1C-57D00428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BE88-CD8F-4F98-B26A-167E32DC4B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24DB-F750-455E-A1DE-23D429D766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92A6-5684-46BF-9FF6-EF6A3E79A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FEA0-E7FA-4E98-AF2B-20EEC39D5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9B8-5969-4E81-BECE-4AAE0FC12F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1AF-8A53-4E5C-A30B-341AD69053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деятель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666880" y="533520"/>
            <a:ext cx="59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рабочих, возводящих Шартрский собор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рашивают, что они делают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дин говорит: «Я таскаю камни»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ругой: «Зарабатываю на пропитание»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етий: «Строю хр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320688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Моти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причина, лежащая в основе выбора всех действий и поступков челове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ольшинство наших мотивов выражается в виде ответа на вопрос: для чего я это делаю? «Я учусь для того, чтобы ….» «Я хочу получить профессию… чтобы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77828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Мотивация</a:t>
            </a: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побуждения, вызывающие активность организма и определяющие ее направленн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ажнейшим условием профессиональной самореализации личности являются не столько способности, сколько мотивация человека и его жизненные цели. Мотивация — это двигатель человеческих поступ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-80640"/>
            <a:ext cx="7543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1. «Преодол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итайте эти примеры и подумайте, что роднит этих успешных и счастливых в профессиональной деятельности людей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118520"/>
            <a:ext cx="868680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ирковой артис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алентин Дику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полняя акробатический трюк, получил травму, приковавшую его к постели. Врачи не оставляли никакой надежды. Благодаря ежедневным многочасовым упражнениям Валентина не только встал на ноги, но и вернулся на арену цирка, где жонглирует гирями, выдерживая груз почти в тонн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В 1996 году во время тренировки конек партнера буквально раскроил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реп. Врачи сделали все возможное — Лена осталась жива. А сама Лена и ее новый партнер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то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ли невозможное — после нескольких лет упорных тренировок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002 году пара Бережная - Сихарулидз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воевала олимпийскую золотую медаль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Великолепная, яркая балерина, обладающая безупречной техникой и заслуженно получающая награды за свое мастерство — такой мы знае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стасию Волочков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Но, чтобы достичь этого, надо было преодолеть множество препятствий, в том числе сомнения специалистов, которые считали Анастасию слишком высокой для балета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69720" y="515520"/>
            <a:ext cx="747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2. «Определение мотивации»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одика Головах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приведенные ниже суждения о профессиях и выберите два из них, наиболее соответствующие вашим взгляд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9720" y="1467000"/>
            <a:ext cx="62517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914400" y="1447920"/>
          <a:ext cx="7467480" cy="4724280"/>
        </p:xfrm>
        <a:graphic>
          <a:graphicData uri="http://schemas.openxmlformats.org/drawingml/2006/table">
            <a:tbl>
              <a:tblPr/>
              <a:tblGrid>
                <a:gridCol w="3697200"/>
                <a:gridCol w="3770280"/>
              </a:tblGrid>
              <a:tr h="472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 наибольшей степени реализовать свои физические возможности, проявить силу, ловкость, волевые качества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остичь высокого общественного положения, известности, славы, получить признание окружающих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лучать высокий заработок, обеспечивающий хорошие материальные условия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оявлять творческую инициативу, полностью раскрыть свои интеллектуальные способности.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ботать в хороших условиях, чтобы работа не была утомительной, не вызывала отрицательных эмоций.</a:t>
                      </a:r>
                      <a:br>
                        <a:rPr sz="1500"/>
                      </a:b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хранить достаточно энергии и времени для увлечений, общения с друзьями и близкими.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85" name="Picture 17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148320"/>
            <a:ext cx="8686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, в свою очередь, подразделяются на низшие и высшие. В слове «низшие» нет ничего обидного, они есть у всех людей. Это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потреб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пище и воде, воздухе, тепле, крыше над головой и т. д.) 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защищен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враждебных действий других людей, стихийных бедствий и техногенных катастроф, уверенность в завтрашнем дне. Далее идут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потреб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чувство принадлежности к семье, потребность в любви). Следующий уровень —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в уважении и самоуважен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ший уровень —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в самореализ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ксимальном раскрытии своих способ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4327560" y="219564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191120" y="2666880"/>
          <a:ext cx="1752480" cy="25884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РЕ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-432756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4327560" y="2195640"/>
            <a:ext cx="21430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62520" y="3048120"/>
          <a:ext cx="2285640" cy="349200"/>
        </p:xfrm>
        <a:graphic>
          <a:graphicData uri="http://schemas.openxmlformats.org/drawingml/2006/table">
            <a:tbl>
              <a:tblPr/>
              <a:tblGrid>
                <a:gridCol w="228564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-432756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4327560" y="2195640"/>
            <a:ext cx="26798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429000" y="3505320"/>
          <a:ext cx="3276360" cy="304560"/>
        </p:xfrm>
        <a:graphic>
          <a:graphicData uri="http://schemas.openxmlformats.org/drawingml/2006/table">
            <a:tbl>
              <a:tblPr/>
              <a:tblGrid>
                <a:gridCol w="3276360"/>
              </a:tblGrid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ПОТРЕ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-432756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4327560" y="2195640"/>
            <a:ext cx="3214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895480" y="3962520"/>
          <a:ext cx="4267080" cy="3571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ЗАЩИЩ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-4327560" y="4389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4327560" y="2195640"/>
            <a:ext cx="37512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514600" y="4397400"/>
          <a:ext cx="5029200" cy="2588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ИЕ ПОТРЕ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028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57200" y="79632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ребности большинства людей различаются незначите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ыйти на улицу и каждому задать вопро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то для Вас в жизни главное?», мы получим примерно одни и те же отве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Благополучие семьи и близ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Материальная обеспеч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Хорош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арь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Сл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7467480" y="2209680"/>
            <a:ext cx="1162080" cy="1524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1419120" cy="1181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1066680" cy="2057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6781680" y="4495680"/>
            <a:ext cx="771480" cy="7336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11239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20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20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99"/>
                </a:solidFill>
                <a:uFillTx/>
                <a:latin typeface="Garamond"/>
              </a:rPr>
              <a:t>Как же большинство людей обходится со значимыми ценностями?</a:t>
            </a:r>
            <a:br>
              <a:rPr sz="38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ff"/>
                </a:solidFill>
                <a:latin typeface="Arial"/>
              </a:rPr>
              <a:t>Здоровье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обят всевозможными способами. Пьют, курят, употребляют наркотики. Переедают, недосыпают, мало двигаются. Перенапрягаются, нервнич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Благополучие семьи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гаются, тиранят, родных, лгут, изменяют, занимают деньги. Забывают родителей, бросают детей. Погружаются в собственные дела и интересы настолько, что для семьи уже нет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60093"/>
                </a:solidFill>
                <a:latin typeface="Arial"/>
              </a:rPr>
              <a:t>Материальная обеспеченность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грывают в азартные игры все. Пускаются в аферы и разоряются. В погоне за лишним лишаются необходимого. Пьют. Ленятся. Тратят деньги на явно ненужные вещи, а в тяжелый час идут по мир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ffff"/>
                </a:solidFill>
                <a:latin typeface="Arial"/>
              </a:rPr>
              <a:t>Хорошая работ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шинство людей к своей работе равнодушно, или, более того, ее ненавидит. Устают, переутомляются, мечтают об отпуске. Занимаются черной поденщиной — ради денег, которые в таком количестве не являются для них строго необходимы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Arial"/>
              </a:rPr>
              <a:t>Любовь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все люди хотят любить и быть любимыми — то уже просто по закону больших чисел большинство должно это иметь. Жизнь убеждает нас в том, что ничего подобного. Почему, зачем эта «главная ценность» связана так часто с огромным количеством страданий, лишений и всяческих несчастий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"/>
              </a:rPr>
              <a:t>Карьер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ягаться, лицемерить, прогибаться перед начальством, сносить несправедливые попреки, переступать через лю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60093"/>
                </a:solidFill>
                <a:latin typeface="Arial"/>
              </a:rPr>
              <a:t>Слава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оренные страны, войны. Бывает и безвредная слава. Усердно тренируйтесь в плевках — и попадете в Книгу рекордов Гиннеса. Спортивная слава — угробленное здоровье, укороченная жизнь и режим, полный тяжелейшего труда и жестоких огранич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уртазина Раиса Гасиевна</cp:lastModifiedBy>
  <dcterms:modified xsi:type="dcterms:W3CDTF">2009-10-28T09:07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